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C616-D2A7-42E2-830C-713A4DF9CC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3A38-1BAE-4535-8CFA-754F310478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46E0-CA32-40A6-BE7F-D7124440B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EAC8-CE31-42CF-ACB2-13650C0B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6663-7B79-4B49-8669-84DF2BE7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49BD-60AA-4656-8700-B46C97E67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A354-AAF7-4496-903E-1A6F388A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5127-CD48-479A-9E2A-8DC487AC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B0B0-AB9D-4AC4-AF10-C7E540EB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19EE-FE4E-4B7B-9C57-B6CABF12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D639-7559-4BF5-B4E3-D457897A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0CAB-42E5-4163-BCDF-553034CE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2F7C-38A7-491B-82CF-1F3C3700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52ED-6501-4928-98A1-EFA852B3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3767-E514-465A-AC4E-9F19463BB0D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td"/>
          <p:cNvPicPr/>
          <p:nvPr/>
        </p:nvPicPr>
        <p:blipFill>
          <a:blip r:embed="rId1"/>
          <a:stretch/>
        </p:blipFill>
        <p:spPr>
          <a:xfrm>
            <a:off x="4140360" y="3284640"/>
            <a:ext cx="5040000" cy="360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hMSC ter2"/>
          <p:cNvPicPr/>
          <p:nvPr/>
        </p:nvPicPr>
        <p:blipFill>
          <a:blip r:embed="rId2"/>
          <a:stretch/>
        </p:blipFill>
        <p:spPr>
          <a:xfrm>
            <a:off x="326880" y="-15840"/>
            <a:ext cx="4087800" cy="3732120"/>
          </a:xfrm>
          <a:prstGeom prst="rect">
            <a:avLst/>
          </a:prstGeom>
          <a:ln w="0">
            <a:noFill/>
          </a:ln>
        </p:spPr>
      </p:pic>
      <p:sp>
        <p:nvSpPr>
          <p:cNvPr id="50" name="Line 8"/>
          <p:cNvSpPr/>
          <p:nvPr/>
        </p:nvSpPr>
        <p:spPr>
          <a:xfrm flipH="1">
            <a:off x="1152360" y="858960"/>
            <a:ext cx="8971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 flipH="1">
            <a:off x="115920" y="66672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0"/>
          <p:cNvSpPr/>
          <p:nvPr/>
        </p:nvSpPr>
        <p:spPr>
          <a:xfrm>
            <a:off x="1154160" y="1130400"/>
            <a:ext cx="718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1"/>
          <p:cNvSpPr/>
          <p:nvPr/>
        </p:nvSpPr>
        <p:spPr>
          <a:xfrm flipV="1">
            <a:off x="1649880" y="1219320"/>
            <a:ext cx="297000" cy="32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2"/>
          <p:cNvSpPr/>
          <p:nvPr/>
        </p:nvSpPr>
        <p:spPr>
          <a:xfrm flipV="1">
            <a:off x="1694880" y="1304640"/>
            <a:ext cx="354960" cy="573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3"/>
          <p:cNvSpPr/>
          <p:nvPr/>
        </p:nvSpPr>
        <p:spPr>
          <a:xfrm flipV="1">
            <a:off x="1657800" y="2027160"/>
            <a:ext cx="399240" cy="439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4"/>
          <p:cNvSpPr/>
          <p:nvPr/>
        </p:nvSpPr>
        <p:spPr>
          <a:xfrm flipH="1">
            <a:off x="2774520" y="23302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 flipH="1">
            <a:off x="115920" y="113040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 flipH="1">
            <a:off x="115920" y="158580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 flipH="1">
            <a:off x="110880" y="2192400"/>
            <a:ext cx="215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 flipH="1">
            <a:off x="115920" y="296856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4384440" y="339840"/>
            <a:ext cx="55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GRP9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631800" y="736560"/>
            <a:ext cx="55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GRP7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123840" y="98100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Protein Disulfide</a:t>
            </a:r>
            <a:br>
              <a:rPr sz="900"/>
            </a:b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isomer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440280" y="2346480"/>
            <a:ext cx="74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nnexin 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4"/>
          <p:cNvSpPr/>
          <p:nvPr/>
        </p:nvSpPr>
        <p:spPr>
          <a:xfrm flipH="1">
            <a:off x="2329920" y="1517760"/>
            <a:ext cx="208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6"/>
          <p:cNvSpPr/>
          <p:nvPr/>
        </p:nvSpPr>
        <p:spPr>
          <a:xfrm>
            <a:off x="142920" y="1554120"/>
            <a:ext cx="1092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Protein Disulfide</a:t>
            </a:r>
            <a:br>
              <a:rPr sz="900"/>
            </a:b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isomerase</a:t>
            </a:r>
            <a:br>
              <a:rPr sz="900"/>
            </a:b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related prote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7"/>
          <p:cNvSpPr/>
          <p:nvPr/>
        </p:nvSpPr>
        <p:spPr>
          <a:xfrm>
            <a:off x="162000" y="1362240"/>
            <a:ext cx="97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Tubulin Beta 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8"/>
          <p:cNvSpPr/>
          <p:nvPr/>
        </p:nvSpPr>
        <p:spPr>
          <a:xfrm flipV="1">
            <a:off x="1967040" y="460440"/>
            <a:ext cx="264960" cy="26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4488480" y="1407960"/>
            <a:ext cx="747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ctin Be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4393080" y="213372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Heat Shock</a:t>
            </a:r>
            <a:br>
              <a:rPr sz="900"/>
            </a:b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Protein Beta-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3"/>
          <p:cNvSpPr/>
          <p:nvPr/>
        </p:nvSpPr>
        <p:spPr>
          <a:xfrm flipH="1">
            <a:off x="1152000" y="1547640"/>
            <a:ext cx="505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5"/>
          <p:cNvSpPr/>
          <p:nvPr/>
        </p:nvSpPr>
        <p:spPr>
          <a:xfrm flipH="1">
            <a:off x="1155600" y="246708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6"/>
          <p:cNvSpPr/>
          <p:nvPr/>
        </p:nvSpPr>
        <p:spPr>
          <a:xfrm flipH="1">
            <a:off x="1157040" y="1870200"/>
            <a:ext cx="53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7"/>
          <p:cNvSpPr/>
          <p:nvPr/>
        </p:nvSpPr>
        <p:spPr>
          <a:xfrm>
            <a:off x="2232000" y="460440"/>
            <a:ext cx="216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0"/>
          <p:cNvSpPr/>
          <p:nvPr/>
        </p:nvSpPr>
        <p:spPr>
          <a:xfrm>
            <a:off x="5346000" y="2080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igure 1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1"/>
          <p:cNvSpPr/>
          <p:nvPr/>
        </p:nvSpPr>
        <p:spPr>
          <a:xfrm>
            <a:off x="2486880" y="6093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igure 1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3:40:50Z</dcterms:created>
  <dc:creator>CNRS</dc:creator>
  <dc:description/>
  <dc:language>en-US</dc:language>
  <cp:lastModifiedBy>Meghan Harnois</cp:lastModifiedBy>
  <dcterms:modified xsi:type="dcterms:W3CDTF">2010-07-12T20:20:22Z</dcterms:modified>
  <cp:revision>10</cp:revision>
  <dc:subject/>
  <dc:title>Diapositive 1</dc:title>
</cp:coreProperties>
</file>